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E2A5-F2AF-4218-9EE1-E601436FB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0328-5B51-4023-BC73-0EB8CF07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5368-3F81-4C06-A2E8-8F1932EE1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2E1C-D3A3-4DDF-A740-FBCFA1F53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BBF0D-8DB9-4994-9903-02820CAC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8981-6263-41E3-BBB7-7B738AF1B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14E7-DB2F-4A55-A71A-DC7081109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C9CF-C3DD-4F2B-885F-1A3DEAE6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39B7-B328-41FA-B6D0-656721476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A73F-6C12-4749-AACB-139A16C0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F141-FEBD-424C-9514-569818B9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87A0-D75A-4C80-8556-17A2F8921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3076-47A2-49BE-A059-FA20270841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3:26:35Z</dcterms:created>
  <dc:creator>INVES-S6600A</dc:creator>
  <dc:description/>
  <dc:language>en-US</dc:language>
  <cp:lastModifiedBy>INVES-S6600A</cp:lastModifiedBy>
  <dcterms:modified xsi:type="dcterms:W3CDTF">2010-11-23T13:27:07Z</dcterms:modified>
  <cp:revision>1</cp:revision>
  <dc:subject/>
  <dc:title>Diapositiva 1</dc:title>
</cp:coreProperties>
</file>